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21920" cy="34128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>
            <a:off x="380880" y="533520"/>
            <a:ext cx="0" cy="6095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V="1">
            <a:off x="8915400" y="533160"/>
            <a:ext cx="0" cy="6095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80880" y="6629400"/>
            <a:ext cx="853452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ki.org.nz/r/assessment/atol_online/docs/applying_bloom.doc" TargetMode="External"/><Relationship Id="rId2" Type="http://schemas.openxmlformats.org/officeDocument/2006/relationships/hyperlink" Target="http://www.teachers.ash.org.au/researchskills/dalton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ki.org.nz/r/assessment/atol_online/ppt/online_workshop_1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2276640"/>
            <a:ext cx="727416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acher-student conversations that promo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3516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ty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oom’s taxonomy and classroom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 of cognitive processes provides a useful framework for focusing classroom discussion on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tivity may be completed with teachers or with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useful table for this activity that identifies verbs, question stems, and potential activities and outcome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go t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eachers.ash.org.au/researchskills/dalt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ty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oom’s taxonomy and classroom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a favorite myth, legend or fable that you know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you are asking questions about this story or the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loom’s taxonomy to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aluation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ty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oom’s taxonomy and classroom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example based on the M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 my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ui Snares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ick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copy of the lege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ui Snares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sample question beginnings 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ty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oom’s taxonomy and classroom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your questions with others.  Discuss how you could move from questions and answers to rich classroom conversations invol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aboration of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rategies could you use to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rategies that promote rich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things a teacher can do to promote and enhance discussions with studen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ing students to develop more complex contribu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y a little more about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 you think that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a personal contribution from your own experi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remember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erbal invit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ye contact, tilt of hea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, P.J., &amp; Wiliam, D. (1998). Assessment and classroom learning.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essment in Education: Principles, Policy &amp; Practice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(1), 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rrance, H., &amp; Pryor, J. (1998).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Investigating formative assessment: Teaching, learning and assessment in the classro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Buckingham: Open University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aira, K. (1975)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ā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i legends for Young New Zealander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ckland: Paul Hamly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lton, J., &amp; Smith, D. (1986)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tending children’s special abilities – Strategies for primary classrooms (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s 36–7)Victoria:Ministry of Education.http://www.teachers.ash.org.au/researchskills/dalt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 to Bloom’s taxonomy on the internet are under Thinking Skills in the TKI sea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 http://edtech.clas.pdx.edu/presentations/frr99/bloom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coun.uvic.ca/learn/program/hndouts/blo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ho will find this workshop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L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dicates /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use this worksh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pdate, review and/or reflect on teacher / student interaction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focus for in-school professional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upport in-depth AtoL programmes in 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 this workshop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2999"/>
              </a:spcAft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role that teacher-student and student-student conversations can play in promoting and enhanc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2999"/>
              </a:spcAft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e purpose and value of questions in classroom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2999"/>
              </a:spcAft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trategies that promote learning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 combination of readings and activities that you can do on your own or with colleag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acher-student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student conversations about learning are a vital part of assessment fo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many of conversations focus on task and/or behaviour management rather than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questions we ask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 how can we promo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arning conversa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8064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ssential is that any dialogue should evo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tful ref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ncouraged to take part.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&amp; Wiliam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role of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re often the way to initiate productive di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us look more closely a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378936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starter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is meant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question an open or a closed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os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questions imply that the teacher has a predetermined correct response in mi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questions are nearly always concerned with the recall of facts or simple compreh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rance and Pryor (1998) suggest a framework of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ergent and divergent models for formative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Convergent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ims to disco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rner knows, understands or can do a pre-determined 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Divergent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ims to disco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earner knows, understands or can 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t assessment is characterised by closed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 further information on convergent / divergent assessment go to: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ki.org.nz/r/assessment/atol_online/ppt/online_workshop_1.ppt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Slide 19 -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n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students to think beyond the 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a teacher to develop students’ understanding and promote critical thinking (divergent assess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a range of responses and make progressive cognitive demands on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3964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question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e question makes a difference to how successfully questions probe student understa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611280" y="5013360"/>
            <a:ext cx="8064360" cy="115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720" indent="-41472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time to respond (discuss their thinking in pairs or small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tudents to respond to teacher questions in a variety of ways (writing the answers, concept 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courage students to ask as well as answer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2:40:47Z</dcterms:created>
  <dc:creator>annn</dc:creator>
  <dc:description/>
  <dc:language>en-US</dc:language>
  <cp:lastModifiedBy>CWA New Media</cp:lastModifiedBy>
  <dcterms:modified xsi:type="dcterms:W3CDTF">2009-06-02T22:10:16Z</dcterms:modified>
  <cp:revision>73</cp:revision>
  <dc:subject/>
  <dc:title>Slide 1</dc:title>
</cp:coreProperties>
</file>